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5D1B-E339-4AFC-8DC3-6F6DEA3B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F73E-1879-489A-8510-8632A8D5C9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CA67-E01C-4874-A928-86324C810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A825-1343-4503-9312-9C804A16A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AB60-7C97-4ABE-BEBA-2F2F53E5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AF79-15F7-47B2-A079-4DA5E2CDD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4639-1FF0-4104-93BB-121269506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7FE7-287A-4303-9C64-3EE5A1791F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498B-DE15-454B-B538-D301132A8C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1394-7634-4368-A59B-9046ABE3FC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6B74-C475-465F-BB2A-F96CAA8618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4A81-B4FF-4EFE-862E-B92EE5245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C7AD-9432-442D-9560-F9E8A3CF48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AA07-CA04-432B-BE5E-65C38BF041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6A7B-7583-4EC3-A8A1-964FE40D33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E771-EFF4-4FB3-A93E-52B737EF53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3A48-4292-4489-BEB2-01DD885989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9504-F49F-4029-B5F3-4C7FBEDB5F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2E75-C7E9-4519-8C9D-3EE5665C7E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A175-50B3-4B3C-81BE-D965381700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C3DA-7F44-4DEF-8A12-D8814283C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AC25-D6F3-4D52-90DB-A76DBD7CCB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1B2E-A6B2-4257-93DD-80B4C6C3A7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4322-D313-4ED6-B8FD-94A04167D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D1EF-6193-4D20-8868-0B6E9EB05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F7F7-827D-4656-B745-3FF847F35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D99-F1EB-40AA-AE0B-097CE8254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7609-5E9B-4025-BE4D-48BA2800BB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 – 16 November, 2016, Gariba Lodge, Ta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xpected outputs  from th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y research for development livestock issues for Phase 2 are identified and the proven technologies for 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 logframe (details of activities based on the Phase 2 proposal) with som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Phase 1 Livestock activities – achievements, gaps and lesson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Work to identify Priority issues for Phase 2 and draft Log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’ analysis &amp; potential for collaboration based on identified priorit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ules for the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nctuality – Be on time al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– Be an actor not a spect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– Speak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eciation – Appreciate contribution of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– Avoid dis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 – Let’s think out of the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ebration – There is always something to celebrate, look for i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Lead Institu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IITA Iba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Funding Agen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US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u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Phase 1: 2012 – 2016; Phase 2: 2016 -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Project Partn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AVRDC, ICRAF, ICRISAT, ILRI, IWMI, ARI, SARI, UDS, KN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identify and evaluate demand-driven options for SI that contribute to rural poverty alleviation, improved nutrition, and ecosystem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evaluate, document, and share experiences with approaches for delivering and integrating innovations for SI in a way that will promote their uptake beyond AR actio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gram Objectives</a:t>
            </a:r>
            <a:br>
              <a:rPr sz="3600"/>
            </a:b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reate opportunities for smallholder farm household within AR action sites to move out of poverty and improve their nutritional status while maintaining or improving ecosystem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facilitate partner-led dissemination of integrated innovations for SI beyond the AR actio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gram Objectives</a:t>
            </a:r>
            <a:br>
              <a:rPr sz="3600"/>
            </a:b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vity and resilience of smallholder crop-livestock systems in the Guinea and Sudan savanna zones of West Africa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household nutrition, food and feed safety, and value addition outpu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and institutions enable informed decision-making and equitable access to production assets and input and output mark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and uptake of SI innovations through the building of functional partnerships among research and development institutions enh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61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ject Outcomes for Phase 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3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stock Activitie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existing and potential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of promising livestock value chains to identify appropriat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of nutrient use in smallholder livestock production systems and identification of options for better nutrien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 of feed and health interventions on productivity of village flocks of sheep and go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3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stock Activitie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to increase productivity of rural pig and poultry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sifying integrated cereal-legume-livestock  croppin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9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Rationale for Stakeholders’ Consultatio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s of the USAID Evaluation team on the need for more visibility of livestock in Africa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ing and strengthening of partnership for Africa RISING Phase 2 to deliver particularly the scaling of livestock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a livestock research strategy  for Phase 2 to increase visibility of livestock-relat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9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bjectives of Stakeholders’ Consultatio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view achievements and lessons from livestock related activities under Africa RISING Phase 1 – both processes and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dentify research for development livestock priority issues to focus on in Phase 2 in consonant with the project proposal and recommendations of the USAID Evaluation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nduct stakeholders analysis as to establish key actors needed for implementation of livestock activities under Phase 2 and elaborate on the opportunities for collaboration in case the actors are not involved in Phas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6:36:16Z</dcterms:modified>
  <cp:revision>54</cp:revision>
  <dc:subject/>
  <dc:title>Slide 1</dc:title>
</cp:coreProperties>
</file>